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F151C-E8E1-4D7F-8234-E39A999FA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ABD6-56BA-4930-A0EC-C1C60D78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BEBE6-C4F3-4D17-9FB0-5A4EA3EE0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D369-62E9-4D58-9B3B-256CFCA5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FD54-B23D-4A33-9320-28A80C45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92F55-6636-4D8E-AEAB-C486AA1F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06498-1F79-4102-8427-6B35AA2C6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856A-36E0-43EB-BC50-70AA6E8A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9DFA8-3DAD-471B-8A76-B3A9CA69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EB75-E130-4BBF-A278-F2042A79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6331-BFCF-4FA4-A4C9-C612C26B0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C1FC5-41D7-43C3-B364-3EBB00432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D866-A2C5-44D0-A7BB-F594F5D5E55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rtehistoria.com/historia/obras/8430.ht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D&#252;rer_karl_der_grosse.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5000"/>
            <a:ext cx="79898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 el siglo II d.de C. el imperio romano había llegado a su apogeo, tan poderoso y vasto como era posible imaginarse .</a:t>
            </a:r>
            <a:br>
              <a:rPr sz="4000"/>
            </a:br>
            <a:r>
              <a:rPr b="0" lang="es-CL" sz="4000" spc="-1" strike="noStrike">
                <a:solidFill>
                  <a:srgbClr val="000000"/>
                </a:solidFill>
                <a:latin typeface="Arial"/>
              </a:rPr>
              <a:t>En el año 400 el imperio había disminuido drásticamente, no se conocen las causa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su muerte, le sucede su hijo Luis El Piadoso, con muy poca habilidad para gobernar, lo que sumado a la invasión de los normandos (navegantes y piratas de Dinamarca, Suecia y Noruega), provocó la caída del imperio de Carlomagno, el cual se repartió al poco tiempo entre sus tres nietos, formándose los reinos de: Francia, Germania e Itali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uego Germania (actual Alemania), lucha contra Francia, por el dominio de Italia. Gana ese territorio incluido los estados pontificios. Nace así el Sacro Imperio Romano</a:t>
            </a:r>
            <a:br>
              <a:rPr sz="3200"/>
            </a:b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382752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nacimiento, en Arabia, de una nueva religión, llamada musulmana o islamismo, predicada por Mahoma. </a:t>
            </a:r>
            <a:endParaRPr b="0" lang="en-US" sz="4000" spc="-1" strike="noStrike">
              <a:solidFill>
                <a:srgbClr val="000000"/>
              </a:solidFill>
              <a:latin typeface="Arial"/>
            </a:endParaRPr>
          </a:p>
        </p:txBody>
      </p:sp>
      <p:pic>
        <p:nvPicPr>
          <p:cNvPr id="64" name="Picture 5" descr="edad_media03"/>
          <p:cNvPicPr/>
          <p:nvPr/>
        </p:nvPicPr>
        <p:blipFill>
          <a:blip r:embed="rId1"/>
          <a:stretch/>
        </p:blipFill>
        <p:spPr>
          <a:xfrm>
            <a:off x="4552920" y="1125360"/>
            <a:ext cx="4157640" cy="47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homa nació a fines del siglo VI. en la ciudad de la Meca, en Arab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enta la tradición musulmana,. que a Mahoma se le apareció en arcángel San Gabriel, y le dijo: Predica y Mahoma, creyéndose profeta empezó a predicar a los árabes la idea de un único Dios. y la condenación de los ídolos que adoraban. La síntesis de su pensamiento puede concretarse en: No hay más Dios que Alah, y Mahoma es su profe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í nació el islamismo. que quiere decir sometimiento, a quienes mueren por Alá, se le promete un paraíso de bienes materiales. Es una doctrina, mezcla de cristianismo y judaísm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discípulos tomaban nota de todas las prédicas y luego las condensaron. después de su muerte en sólo libro llamado: El Corán, que significa la lectu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usulmanes de acuerdo con El Corán deben: </a:t>
            </a:r>
            <a:br>
              <a:rPr sz="2800"/>
            </a:br>
            <a:r>
              <a:rPr b="1" lang="es-CL" sz="2800" spc="-1" strike="noStrike">
                <a:solidFill>
                  <a:srgbClr val="000000"/>
                </a:solidFill>
                <a:latin typeface="Arial"/>
              </a:rPr>
              <a:t>Orar cinco veces al día, y a determinadas horas. </a:t>
            </a:r>
            <a:br>
              <a:rPr sz="2800"/>
            </a:br>
            <a:r>
              <a:rPr b="1" lang="es-CL" sz="2800" spc="-1" strike="noStrike">
                <a:solidFill>
                  <a:srgbClr val="000000"/>
                </a:solidFill>
                <a:latin typeface="Arial"/>
              </a:rPr>
              <a:t>Observar ciertos principios de higiene </a:t>
            </a:r>
            <a:br>
              <a:rPr sz="2800"/>
            </a:br>
            <a:r>
              <a:rPr b="1" lang="es-CL" sz="2800" spc="-1" strike="noStrike">
                <a:solidFill>
                  <a:srgbClr val="000000"/>
                </a:solidFill>
                <a:latin typeface="Arial"/>
              </a:rPr>
              <a:t>Practicar abluciones (purificarse por medio del lavado con agua) </a:t>
            </a:r>
            <a:br>
              <a:rPr sz="2800"/>
            </a:br>
            <a:r>
              <a:rPr b="1" lang="es-CL" sz="2800" spc="-1" strike="noStrike">
                <a:solidFill>
                  <a:srgbClr val="000000"/>
                </a:solidFill>
                <a:latin typeface="Arial"/>
              </a:rPr>
              <a:t>Ayunar durante un mes.</a:t>
            </a:r>
            <a:br>
              <a:rPr sz="2800"/>
            </a:br>
            <a:r>
              <a:rPr b="1" lang="es-CL" sz="2800" spc="-1" strike="noStrike">
                <a:solidFill>
                  <a:srgbClr val="000000"/>
                </a:solidFill>
                <a:latin typeface="Arial"/>
              </a:rPr>
              <a:t>Brindar abundante limosna a los pobres. </a:t>
            </a:r>
            <a:br>
              <a:rPr sz="2800"/>
            </a:br>
            <a:r>
              <a:rPr b="1" lang="es-CL" sz="2800" spc="-1" strike="noStrike">
                <a:solidFill>
                  <a:srgbClr val="000000"/>
                </a:solidFill>
                <a:latin typeface="Arial"/>
              </a:rPr>
              <a:t>Ordena llevar la guerra santa, a todo pueblo que no sea musulmán.</a:t>
            </a:r>
            <a:br>
              <a:rPr sz="2800"/>
            </a:br>
            <a:br>
              <a:rPr sz="2800"/>
            </a:br>
            <a:r>
              <a:rPr b="1"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cesores de Mahoma, se llamaron Califas o Comendatos de los creyentes, y cumplieron con la guerra santa, llevando sus ejércitos por todos los pueblos que no lo profesaban. Esta guerra, no era más ni menos, que guerra de pillaje y exterminio, conquistando pueblos de Asia Menor, Egipto, Persia, India, Túnez, Argelia, Marruecos. y casi toda España. Con todos estos países se formó el imperio árabe, o imperio de los Calif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árabes fundaron El Cairo en Egipto, y también fueron los responsable del saqueo e incendio de la famosa e increíble Biblioteca de Alejandría, con millares de volúmenes de una riqueza literaria extraordinaria, con el siguiente criterio de califa Omar:"Si todos estos libros repiten la verdad del Corán, sobran, y si las niegan son fals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menos de 100 años el imperio árabe, tomo proporciones extensas, pero al igual que el imperio romano, no pudo subsistir y fue dividido en tres califatos: el de España, el de Egipto y el de Oriente, con capitales Córdoba, El Cairo y Bagdad, respectivamente.( en el 75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ucha en España contra los musulmanes duró varios siglos. Empujados hasta el sur, Granada fue su último refugio, de donde fueron expulsados definitivamente en 1492, por los reyes católicos.</a:t>
            </a:r>
            <a:br>
              <a:rPr sz="3200"/>
            </a:b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57200" y="765000"/>
            <a:ext cx="5122800" cy="5361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ejército romano debió contratar hombres para sus ejércitos, casi todos ellos llamados: Bárbaros ,que significa extranjer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bía una elevada proporción de hombres extranjeros, sin arraigos patrióticos, en los ejércitos de Roma. Los esclavos , que representaban un alto porcentaje de la población, también eran bárbaros, es decir, el imperio estaba "barbarizado </a:t>
            </a:r>
            <a:endParaRPr b="0" lang="en-US" sz="2800" spc="-1" strike="noStrike">
              <a:solidFill>
                <a:srgbClr val="000000"/>
              </a:solidFill>
              <a:latin typeface="Arial"/>
            </a:endParaRPr>
          </a:p>
        </p:txBody>
      </p:sp>
      <p:pic>
        <p:nvPicPr>
          <p:cNvPr id="43" name="Picture 7" descr="Vista previa de la imagen"/>
          <p:cNvPicPr/>
          <p:nvPr/>
        </p:nvPicPr>
        <p:blipFill>
          <a:blip r:embed="rId1"/>
          <a:stretch/>
        </p:blipFill>
        <p:spPr>
          <a:xfrm>
            <a:off x="5435640" y="1508040"/>
            <a:ext cx="3457440" cy="264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435880" cy="59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mplantación de un nuevo sistema de "gobierno". el feudalismo, sistema por el cual unos pocos terratenientes se adueñaron de la tierras de casi todo Europa y de sus habitantes, a quienes les permitían explotar sus tierras a cambio de un impues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6840" y="549000"/>
            <a:ext cx="454644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n la Edad Media existía una clase social muy alta, formada por un grupo privilegiado de guerreros y religiosos, estos últimos, miembros destacados de la Iglesia. </a:t>
            </a:r>
            <a:endParaRPr b="0" lang="en-US" sz="3200" spc="-1" strike="noStrike">
              <a:solidFill>
                <a:srgbClr val="000000"/>
              </a:solidFill>
              <a:latin typeface="Arial"/>
            </a:endParaRPr>
          </a:p>
        </p:txBody>
      </p:sp>
      <p:pic>
        <p:nvPicPr>
          <p:cNvPr id="76" name="Picture 5" descr="Vista previa de la imagen"/>
          <p:cNvPicPr/>
          <p:nvPr/>
        </p:nvPicPr>
        <p:blipFill>
          <a:blip r:embed="rId1"/>
          <a:stretch/>
        </p:blipFill>
        <p:spPr>
          <a:xfrm>
            <a:off x="4859280" y="1739880"/>
            <a:ext cx="4033800" cy="363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549000"/>
            <a:ext cx="4038480" cy="55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obleza guerrera vivía en los castillos y sus principales ocupaciones eran la guerra y los torneos de combate entre caballeros. </a:t>
            </a:r>
            <a:endParaRPr b="0" lang="en-US" sz="3200" spc="-1" strike="noStrike">
              <a:solidFill>
                <a:srgbClr val="000000"/>
              </a:solidFill>
              <a:latin typeface="Arial"/>
            </a:endParaRPr>
          </a:p>
        </p:txBody>
      </p:sp>
      <p:pic>
        <p:nvPicPr>
          <p:cNvPr id="78" name="Picture 5" descr="Ampliar la imagen"/>
          <p:cNvPicPr/>
          <p:nvPr/>
        </p:nvPicPr>
        <p:blipFill>
          <a:blip r:embed="rId1"/>
          <a:stretch/>
        </p:blipFill>
        <p:spPr>
          <a:xfrm>
            <a:off x="4859280" y="2367000"/>
            <a:ext cx="3960720" cy="32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6840" y="765000"/>
            <a:ext cx="4762440" cy="53611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us ingresos procedían de los tributos que les pagaban sus siervos por el usufructo de sus tierras. </a:t>
            </a:r>
            <a:endParaRPr b="0" lang="en-US" sz="4000" spc="-1" strike="noStrike">
              <a:solidFill>
                <a:srgbClr val="000000"/>
              </a:solidFill>
              <a:latin typeface="Arial"/>
            </a:endParaRPr>
          </a:p>
        </p:txBody>
      </p:sp>
      <p:pic>
        <p:nvPicPr>
          <p:cNvPr id="80" name="Picture 6" descr="feudalismo02"/>
          <p:cNvPicPr/>
          <p:nvPr/>
        </p:nvPicPr>
        <p:blipFill>
          <a:blip r:embed="rId1"/>
          <a:stretch/>
        </p:blipFill>
        <p:spPr>
          <a:xfrm>
            <a:off x="5148360" y="1481040"/>
            <a:ext cx="3816360" cy="417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620280"/>
            <a:ext cx="404352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aballeros eran de una clase social un poco menor que los terratenientes militares y religiosos, y se podía llegar a ella, gracias a algún mérito durante una guerra o combate. </a:t>
            </a:r>
            <a:endParaRPr b="0" lang="en-US" sz="3200" spc="-1" strike="noStrike">
              <a:solidFill>
                <a:srgbClr val="000000"/>
              </a:solidFill>
              <a:latin typeface="Arial"/>
            </a:endParaRPr>
          </a:p>
        </p:txBody>
      </p:sp>
      <p:pic>
        <p:nvPicPr>
          <p:cNvPr id="82" name="Picture 5" descr="Ampliar la imagen"/>
          <p:cNvPicPr/>
          <p:nvPr/>
        </p:nvPicPr>
        <p:blipFill>
          <a:blip r:embed="rId1"/>
          <a:stretch/>
        </p:blipFill>
        <p:spPr>
          <a:xfrm>
            <a:off x="4716360" y="1484280"/>
            <a:ext cx="4103640" cy="41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836280"/>
            <a:ext cx="4038480" cy="5289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sacerdotes, abades y obispos pertenecían al mismo grupo social que la nobleza guerrera, y eran los responsables de la dirección de una de la instituciones más importantes de la Edad Media: la Iglesia. </a:t>
            </a:r>
            <a:endParaRPr b="0" lang="en-US" sz="2800" spc="-1" strike="noStrike">
              <a:solidFill>
                <a:srgbClr val="000000"/>
              </a:solidFill>
              <a:latin typeface="Arial"/>
            </a:endParaRPr>
          </a:p>
        </p:txBody>
      </p:sp>
      <p:pic>
        <p:nvPicPr>
          <p:cNvPr id="84" name="Picture 6" descr="asis"/>
          <p:cNvPicPr/>
          <p:nvPr/>
        </p:nvPicPr>
        <p:blipFill>
          <a:blip r:embed="rId1"/>
          <a:stretch/>
        </p:blipFill>
        <p:spPr>
          <a:xfrm>
            <a:off x="4973760" y="1484280"/>
            <a:ext cx="3232080" cy="453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549000"/>
            <a:ext cx="3467160" cy="557676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campesino eran la clase social más baja de esta época, y se dedicaban a la cría de animales y a la agricultura. </a:t>
            </a:r>
            <a:endParaRPr b="0" lang="en-US" sz="3600" spc="-1" strike="noStrike">
              <a:solidFill>
                <a:srgbClr val="000000"/>
              </a:solidFill>
              <a:latin typeface="Arial"/>
            </a:endParaRPr>
          </a:p>
        </p:txBody>
      </p:sp>
      <p:pic>
        <p:nvPicPr>
          <p:cNvPr id="86" name="Picture 5" descr="edad_media04"/>
          <p:cNvPicPr/>
          <p:nvPr/>
        </p:nvPicPr>
        <p:blipFill>
          <a:blip r:embed="rId1"/>
          <a:stretch/>
        </p:blipFill>
        <p:spPr>
          <a:xfrm>
            <a:off x="4643280" y="1052640"/>
            <a:ext cx="4131000" cy="51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El Contrato Feudal: </a:t>
            </a:r>
            <a:br>
              <a:rPr sz="3200"/>
            </a:br>
            <a:r>
              <a:rPr b="1" lang="es-CL" sz="3200" spc="-1" strike="noStrike">
                <a:solidFill>
                  <a:srgbClr val="000000"/>
                </a:solidFill>
                <a:latin typeface="Arial"/>
              </a:rPr>
              <a:t>El feudo era el beneficio o tierra concedida por un señor en premio de servicios prestados y con la obligación de prestar otros nuevos.</a:t>
            </a:r>
            <a:br>
              <a:rPr sz="3200"/>
            </a:br>
            <a:br>
              <a:rPr sz="3200"/>
            </a:br>
            <a:r>
              <a:rPr b="1" lang="es-CL" sz="3200" spc="-1" strike="noStrike">
                <a:solidFill>
                  <a:srgbClr val="000000"/>
                </a:solidFill>
                <a:latin typeface="Arial"/>
              </a:rPr>
              <a:t>El vasallo podía enfeudar una parte de su feudo a vasallos de inferior categoría; así que un mismo individuo podía ser señor y vasallo a la vez.</a:t>
            </a:r>
            <a:br>
              <a:rPr sz="3200"/>
            </a:br>
            <a:r>
              <a:rPr b="1"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ASTILLO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señores feudales vivían en castillos fortificados, que se levantaban a orillas de los ríos o en las cumbres de las colinas, y dominaban todos los caminos importantes. </a:t>
            </a:r>
            <a:endParaRPr b="0" lang="en-US" sz="2800" spc="-1" strike="noStrike">
              <a:solidFill>
                <a:srgbClr val="000000"/>
              </a:solidFill>
              <a:latin typeface="Arial"/>
            </a:endParaRPr>
          </a:p>
        </p:txBody>
      </p:sp>
      <p:sp>
        <p:nvSpPr>
          <p:cNvPr id="90" name="Rectangle 4"/>
          <p:cNvSpPr/>
          <p:nvPr/>
        </p:nvSpPr>
        <p:spPr>
          <a:xfrm>
            <a:off x="0" y="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5"/>
          <p:cNvSpPr/>
          <p:nvPr/>
        </p:nvSpPr>
        <p:spPr>
          <a:xfrm>
            <a:off x="0" y="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7" descr="edad_media05"/>
          <p:cNvPicPr/>
          <p:nvPr/>
        </p:nvPicPr>
        <p:blipFill>
          <a:blip r:embed="rId1"/>
          <a:stretch/>
        </p:blipFill>
        <p:spPr>
          <a:xfrm>
            <a:off x="4356000" y="1557360"/>
            <a:ext cx="4537080" cy="4040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3970440" cy="581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s Cruzadas. que fueron expediciones religiosas y militares, para recuperar el sepulcro de Cristo. </a:t>
            </a:r>
            <a:endParaRPr b="0" lang="en-US" sz="4400" spc="-1" strike="noStrike">
              <a:solidFill>
                <a:srgbClr val="000000"/>
              </a:solidFill>
              <a:latin typeface="Arial"/>
            </a:endParaRPr>
          </a:p>
        </p:txBody>
      </p:sp>
      <p:sp>
        <p:nvSpPr>
          <p:cNvPr id="94" name="PlaceHolder 2"/>
          <p:cNvSpPr>
            <a:spLocks noGrp="1"/>
          </p:cNvSpPr>
          <p:nvPr>
            <p:ph/>
          </p:nvPr>
        </p:nvSpPr>
        <p:spPr>
          <a:xfrm>
            <a:off x="4643280" y="260280"/>
            <a:ext cx="404352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95" name="Picture 5" descr="cruzadas00"/>
          <p:cNvPicPr/>
          <p:nvPr/>
        </p:nvPicPr>
        <p:blipFill>
          <a:blip r:embed="rId1"/>
          <a:stretch/>
        </p:blipFill>
        <p:spPr>
          <a:xfrm>
            <a:off x="4572000" y="765000"/>
            <a:ext cx="4248000" cy="508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620280"/>
            <a:ext cx="4402080" cy="550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odosio, fue el último emperador de todo el imperio , y que antes de morir lo dividió en el imperio de oriente y occid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l 395 Teodosio dividió el imperio entre sus dos hijos y a Arcadio le asignó el de oriente, con capital Constantinopla. </a:t>
            </a:r>
            <a:endParaRPr b="0" lang="en-US" sz="2800" spc="-1" strike="noStrike">
              <a:solidFill>
                <a:srgbClr val="000000"/>
              </a:solidFill>
              <a:latin typeface="Arial"/>
            </a:endParaRPr>
          </a:p>
        </p:txBody>
      </p:sp>
      <p:pic>
        <p:nvPicPr>
          <p:cNvPr id="45" name="Picture 6" descr="Teodosio el Grande">
            <a:hlinkClick r:id="rId1"/>
          </p:cNvPr>
          <p:cNvPicPr/>
          <p:nvPr/>
        </p:nvPicPr>
        <p:blipFill>
          <a:blip r:embed="rId2"/>
          <a:stretch/>
        </p:blipFill>
        <p:spPr>
          <a:xfrm>
            <a:off x="5537160" y="1268280"/>
            <a:ext cx="2870280" cy="367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expansión del Islam provocó numerosos conflictos en el Occidente cristiano. La principal disputa surgió porque los árabes habían ocupado los Santos Lugares, en Palestina, el lugar origen de la religión cristiana. A la guerra santa, que sirvió de argumento a los árabes para sus conquistas, el occidente le opuso el deseo de recuperar sus terrenos sagrad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5194440" cy="567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desigualdad social y el predominio de la Iglesia fueron otras de las características de esta época.</a:t>
            </a:r>
            <a:br>
              <a:rPr sz="4400"/>
            </a:br>
            <a:endParaRPr b="0" lang="en-US" sz="4400" spc="-1" strike="noStrike">
              <a:solidFill>
                <a:srgbClr val="000000"/>
              </a:solidFill>
              <a:latin typeface="Arial"/>
            </a:endParaRPr>
          </a:p>
        </p:txBody>
      </p:sp>
      <p:sp>
        <p:nvSpPr>
          <p:cNvPr id="98" name="PlaceHolder 2"/>
          <p:cNvSpPr>
            <a:spLocks noGrp="1"/>
          </p:cNvSpPr>
          <p:nvPr>
            <p:ph/>
          </p:nvPr>
        </p:nvSpPr>
        <p:spPr>
          <a:xfrm>
            <a:off x="5724000" y="1600200"/>
            <a:ext cx="29624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99" name="Picture 5" descr="edadmedia2"/>
          <p:cNvPicPr/>
          <p:nvPr/>
        </p:nvPicPr>
        <p:blipFill>
          <a:blip r:embed="rId1"/>
          <a:stretch/>
        </p:blipFill>
        <p:spPr>
          <a:xfrm>
            <a:off x="5508720" y="1125360"/>
            <a:ext cx="3394080" cy="4886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VIDA EN LA EDAD MEDIA</a:t>
            </a:r>
            <a:endParaRPr b="0" lang="en-US" sz="4400" spc="-1" strike="noStrike">
              <a:solidFill>
                <a:srgbClr val="000000"/>
              </a:solidFill>
              <a:latin typeface="Arial"/>
            </a:endParaRPr>
          </a:p>
        </p:txBody>
      </p:sp>
      <p:sp>
        <p:nvSpPr>
          <p:cNvPr id="101" name="PlaceHolder 2"/>
          <p:cNvSpPr>
            <a:spLocks noGrp="1"/>
          </p:cNvSpPr>
          <p:nvPr>
            <p:ph/>
          </p:nvPr>
        </p:nvSpPr>
        <p:spPr>
          <a:xfrm>
            <a:off x="457200" y="1196640"/>
            <a:ext cx="4038480" cy="5661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monasterios representaban la forma superior de la vida religiosa.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lí se estudiaba, se hacían traducciones de libros clásicos, se fabricaba cerveza y vinos, comidas, y también se hacían remedios. Eran los centros culturales y espirituales por excelencia de esa etapa. También a veces funcionaron como hospitales.</a:t>
            </a:r>
            <a:br>
              <a:rPr sz="2400"/>
            </a:br>
            <a:r>
              <a:rPr b="0" lang="es-CL" sz="2400" spc="-1" strike="noStrike">
                <a:solidFill>
                  <a:srgbClr val="000000"/>
                </a:solidFill>
                <a:latin typeface="Arial"/>
              </a:rPr>
              <a:t> </a:t>
            </a:r>
            <a:endParaRPr b="0" lang="en-US" sz="2400" spc="-1" strike="noStrike">
              <a:solidFill>
                <a:srgbClr val="000000"/>
              </a:solidFill>
              <a:latin typeface="Arial"/>
            </a:endParaRPr>
          </a:p>
        </p:txBody>
      </p:sp>
      <p:pic>
        <p:nvPicPr>
          <p:cNvPr id="102" name="Picture 5" descr="univer02"/>
          <p:cNvPicPr/>
          <p:nvPr/>
        </p:nvPicPr>
        <p:blipFill>
          <a:blip r:embed="rId1"/>
          <a:stretch/>
        </p:blipFill>
        <p:spPr>
          <a:xfrm>
            <a:off x="4788000" y="1197000"/>
            <a:ext cx="4105080" cy="4753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lega la peste bubónica, la Iglesia encontró culpable a las mujeres, porque practicaba brujerías, y hacían el amor con el diablo. Tomaban pociones mágicas y se transformaban en animales. Ellas habían provocado al Señor. Eran consideradas herejes y por lo tanto debían ser combatidas hasta la muer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mismo para los judíos que había matado a Cristo al negarlo frente a Poncio Pilatos. Ellos son usureros, matan a niños, niegan a Cristo, y hablan con Satanás. Muchos monjes se encargan de perseguirlos y aniquilarl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este se mantuvo durante 3 años llevándose la tercera parte de la población europea. Durante los siguientes 50 años fueron apareciendo brotes de la misma en distintas partes de Europa. Fue el comienzo de la primera crisis de la sociedad feudal. </a:t>
            </a:r>
            <a:br>
              <a:rPr sz="3200"/>
            </a:br>
            <a:br>
              <a:rPr sz="3200"/>
            </a:b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había leyes escritas, y cada pueblo tenía sus leyes propias que eran memorizadas por expertos locale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robo era castigado muy duramente, hasta llegar a la pena de muerte.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los que provocaban un incendio eran castigado con la muerte.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mbios de Rom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más la antigua religión sufrió severos cambios y análisis. ya que hubo una amplia difusión del Cristianismo, hasta el punto que Constantino, la declaró como religión oficial del imperio en el 330.El imperio de occidente día a día se vió más débil y consecuentemente más amenazada por los bárbaros. hasta que por último un jefe de los heráculos, llamado </a:t>
            </a:r>
            <a:r>
              <a:rPr b="1" lang="es-CL" sz="2800" spc="-1" strike="noStrike">
                <a:solidFill>
                  <a:srgbClr val="000000"/>
                </a:solidFill>
                <a:latin typeface="Arial"/>
              </a:rPr>
              <a:t>Odoacro,</a:t>
            </a:r>
            <a:r>
              <a:rPr b="0" lang="es-CL" sz="2800" spc="-1" strike="noStrike">
                <a:solidFill>
                  <a:srgbClr val="000000"/>
                </a:solidFill>
                <a:latin typeface="Arial"/>
              </a:rPr>
              <a:t> en el año 476 pone fin al imperio, tomando todo el poder terminando con este hecho la Historia Antigu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64000" y="274680"/>
            <a:ext cx="3322800" cy="509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partir de este último hecho. comienza una nueva etapa en la Historia, que se la conoce como la Edad Media. Esta etapa que extiende por un período de diez siglos, y se caracteriza por:</a:t>
            </a:r>
            <a:r>
              <a:rPr b="0" lang="es-CL"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6840" y="1600200"/>
            <a:ext cx="4691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edad_media0"/>
          <p:cNvPicPr/>
          <p:nvPr/>
        </p:nvPicPr>
        <p:blipFill>
          <a:blip r:embed="rId1"/>
          <a:stretch/>
        </p:blipFill>
        <p:spPr>
          <a:xfrm>
            <a:off x="539640" y="549360"/>
            <a:ext cx="4778640" cy="532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invasiones y conquistas de los bárbaros, sobre las diversas provincias del imperio romano.</a:t>
            </a:r>
            <a:r>
              <a:rPr b="0" lang="es-CL"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pa del Mediterráneo se fue transformando, quedando tres grandes civilizaciones:</a:t>
            </a:r>
            <a:r>
              <a:rPr b="1" lang="es-CL" sz="2800" spc="-1" strike="noStrike">
                <a:solidFill>
                  <a:srgbClr val="000000"/>
                </a:solidFill>
                <a:latin typeface="Arial"/>
              </a:rPr>
              <a:t> la romano-germánica en Occidente, la bizantina en Oriente y la islámica en el norte de África y España.</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53" name="Picture 6" descr="edad_media01"/>
          <p:cNvPicPr/>
          <p:nvPr/>
        </p:nvPicPr>
        <p:blipFill>
          <a:blip r:embed="rId1"/>
          <a:stretch/>
        </p:blipFill>
        <p:spPr>
          <a:xfrm>
            <a:off x="4427640" y="1706400"/>
            <a:ext cx="4465440" cy="394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260280"/>
            <a:ext cx="4043520" cy="58658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600" spc="-1" strike="noStrike">
                <a:solidFill>
                  <a:srgbClr val="000000"/>
                </a:solidFill>
                <a:latin typeface="Arial"/>
              </a:rPr>
              <a:t>El establecimiento del Imperio de Carlomagno, guerrero franco que intentó reconstruir el antiguo imperio de Roma. </a:t>
            </a:r>
            <a:endParaRPr b="0" lang="en-US" sz="3600" spc="-1" strike="noStrike">
              <a:solidFill>
                <a:srgbClr val="000000"/>
              </a:solidFill>
              <a:latin typeface="Arial"/>
            </a:endParaRPr>
          </a:p>
        </p:txBody>
      </p:sp>
      <p:pic>
        <p:nvPicPr>
          <p:cNvPr id="55" name="Picture 5" descr="edad_media02"/>
          <p:cNvPicPr/>
          <p:nvPr/>
        </p:nvPicPr>
        <p:blipFill>
          <a:blip r:embed="rId1"/>
          <a:stretch/>
        </p:blipFill>
        <p:spPr>
          <a:xfrm>
            <a:off x="4211640" y="620640"/>
            <a:ext cx="4681440" cy="50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562752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s empresas de este emperador tuvieron dos fines principales: </a:t>
            </a:r>
            <a:br>
              <a:rPr sz="4000"/>
            </a:br>
            <a:r>
              <a:rPr b="1" lang="es-CL" sz="4000" spc="-1" strike="noStrike">
                <a:solidFill>
                  <a:srgbClr val="000000"/>
                </a:solidFill>
                <a:latin typeface="Arial"/>
              </a:rPr>
              <a:t>• Conquistar territorios </a:t>
            </a:r>
            <a:br>
              <a:rPr sz="4000"/>
            </a:br>
            <a:r>
              <a:rPr b="1" lang="es-CL" sz="4000" spc="-1" strike="noStrike">
                <a:solidFill>
                  <a:srgbClr val="000000"/>
                </a:solidFill>
                <a:latin typeface="Arial"/>
              </a:rPr>
              <a:t>• Difundir el cristianismo.</a:t>
            </a:r>
            <a:br>
              <a:rPr sz="4000"/>
            </a:br>
            <a:endParaRPr b="0" lang="en-US" sz="4000" spc="-1" strike="noStrike">
              <a:solidFill>
                <a:srgbClr val="000000"/>
              </a:solidFill>
              <a:latin typeface="Arial"/>
            </a:endParaRPr>
          </a:p>
        </p:txBody>
      </p:sp>
      <p:pic>
        <p:nvPicPr>
          <p:cNvPr id="57" name="Picture 5" descr="Imagen"/>
          <p:cNvPicPr/>
          <p:nvPr/>
        </p:nvPicPr>
        <p:blipFill>
          <a:blip r:embed="rId1"/>
          <a:stretch/>
        </p:blipFill>
        <p:spPr>
          <a:xfrm>
            <a:off x="6066000" y="981000"/>
            <a:ext cx="2819160" cy="42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RLOMAGNO</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526716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ólo fue un importante conquistador, sino también es considerado como un hábil político, gran administrador. respetuoso de la libertad , de la justicia y del orden. Organizó la milicia y la iglesia. Protegió las ciencias y la instrucción, fundando varias escuelas. </a:t>
            </a:r>
            <a:endParaRPr b="0" lang="en-US" sz="3200" spc="-1" strike="noStrike">
              <a:solidFill>
                <a:srgbClr val="000000"/>
              </a:solidFill>
              <a:latin typeface="Arial"/>
            </a:endParaRPr>
          </a:p>
        </p:txBody>
      </p:sp>
      <p:pic>
        <p:nvPicPr>
          <p:cNvPr id="60" name="Picture 5" descr="Carlomagno según una ilustración de Alberto Durero (1511)">
            <a:hlinkClick r:id="rId1"/>
          </p:cNvPr>
          <p:cNvPicPr/>
          <p:nvPr/>
        </p:nvPicPr>
        <p:blipFill>
          <a:blip r:embed="rId2"/>
          <a:stretch/>
        </p:blipFill>
        <p:spPr>
          <a:xfrm>
            <a:off x="6269040" y="1125360"/>
            <a:ext cx="251460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0:39:03Z</dcterms:created>
  <dc:creator>Mónica</dc:creator>
  <dc:description/>
  <dc:language>en-US</dc:language>
  <cp:lastModifiedBy>PROFESOR</cp:lastModifiedBy>
  <dcterms:modified xsi:type="dcterms:W3CDTF">2018-09-26T00:37:03Z</dcterms:modified>
  <cp:revision>11</cp:revision>
  <dc:subject/>
  <dc:title>En el siglo II d.de C. el imperio romano había llegado a su apogeo, tan poderoso y vasto como era posible imaginarse . En el año 400 el imperio había disminuido drásticamente, no se conocen las causas. </dc:title>
</cp:coreProperties>
</file>