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projctor.wav" ContentType="audio/x-wav"/>
  <Override PartName="/ppt/media/image9.png" ContentType="image/png"/>
  <Override PartName="/ppt/media/chimes.wav" ContentType="audio/x-wav"/>
  <Override PartName="/ppt/media/image6.jpeg" ContentType="image/jpeg"/>
  <Override PartName="/ppt/media/image8.png" ContentType="image/png"/>
  <Override PartName="/ppt/media/camera.wav" ContentType="audio/x-wav"/>
  <Override PartName="/ppt/media/image7.jpeg" ContentType="image/jpeg"/>
  <Override PartName="/ppt/media/image4.png" ContentType="image/png"/>
  <Override PartName="/ppt/media/image5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B4D-EC2D-44BA-BF09-980E5450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D8A-D46A-4D52-8F76-F03CE696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9FA-DDE9-4571-B76D-3F6E1E0A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E81-809B-4522-947D-A67BD291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78F-3AB5-46A2-A306-01F52C7B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639-81C7-4B6C-922D-258E047D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C59-4073-4CC0-A0D5-7AFC050D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BF0-DCE9-4DC7-BD71-A151AF96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E5C-76FB-4639-9B54-D8B47D9E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8D4-071C-4B3B-87ED-B90F5F39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F90-0AC8-4803-8BAA-B46C3F98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96C-8A5F-4C4B-BA5F-653C9E73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982D-9D5E-4794-BB68-27417BD010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133720"/>
            <a:ext cx="7619760" cy="297180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Kelt"/>
              </a:rPr>
              <a:t>FEUDALISMO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6483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286000" y="228600"/>
            <a:ext cx="5334120" cy="2209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124080" y="4876920"/>
            <a:ext cx="3146400" cy="17874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3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3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1298520"/>
            <a:ext cx="5450040" cy="458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6094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CASTILLO MEDIE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1676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ORRE DE HOMENA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04920" y="509760"/>
            <a:ext cx="6734160" cy="58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1981080"/>
            <a:ext cx="5562720" cy="388620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2590920"/>
            <a:ext cx="685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962520"/>
            <a:ext cx="2286000" cy="12189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343400"/>
            <a:ext cx="3049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28195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5257800"/>
            <a:ext cx="19047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962520"/>
            <a:ext cx="60948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2514600"/>
            <a:ext cx="175284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TI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905120"/>
            <a:ext cx="190512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4419720"/>
            <a:ext cx="182880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Ñ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867280"/>
            <a:ext cx="18288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6324480"/>
            <a:ext cx="167652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426708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574" stAng="10800000" swAng="5400000"/>
                <a:lnTo>
                  <a:pt x="16475" y="4586"/>
                </a:lnTo>
                <a:lnTo>
                  <a:pt x="16475" y="0"/>
                </a:lnTo>
                <a:lnTo>
                  <a:pt x="21600" y="6079"/>
                </a:lnTo>
                <a:lnTo>
                  <a:pt x="16475" y="12158"/>
                </a:lnTo>
                <a:lnTo>
                  <a:pt x="16475" y="7572"/>
                </a:lnTo>
                <a:lnTo>
                  <a:pt x="12427" y="7572"/>
                </a:lnTo>
                <a:arcTo wR="9441" hR="4588" stAng="16200000" swAng="-5400000"/>
                <a:lnTo>
                  <a:pt x="298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648320"/>
            <a:ext cx="1447920" cy="380880"/>
          </a:xfrm>
          <a:prstGeom prst="leftArrow">
            <a:avLst>
              <a:gd name="adj1" fmla="val 50000"/>
              <a:gd name="adj2" fmla="val 950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228600"/>
            <a:ext cx="61722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RUCTURA DE UN FEU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590920"/>
            <a:ext cx="1295280" cy="457200"/>
          </a:xfrm>
          <a:prstGeom prst="leftArrow">
            <a:avLst>
              <a:gd name="adj1" fmla="val 50000"/>
              <a:gd name="adj2" fmla="val 708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487692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8954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4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429000" y="1523880"/>
          <a:ext cx="5105520" cy="37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523880"/>
                    <a:ext cx="510552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838080" y="160020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CAMPESINOS Y SIERVOS DE LA GLEBA ERAN LAS CLASES INFERIORES EN LA EDAD MED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685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SERVID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03840" y="762120"/>
            <a:ext cx="2014560" cy="281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444492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43000" y="4343400"/>
            <a:ext cx="678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4197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NOBLES Y EL CLERO ERAN LAS CLASES SUPERIORES EN LA EDAD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762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362320"/>
            <a:ext cx="64767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ÑOR FEUD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IL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RVIDUMB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ASA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ERVO DE LA GLE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11430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514600"/>
            <a:ext cx="5639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36232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L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NOB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EU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RVIDUMB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lat Brush"/>
              </a:rPr>
              <a:t>EL FEUDALISMO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mic Sans MS"/>
              </a:rPr>
              <a:t>SISTEMA POLÍTICO, SOCIAL Y ECONÓMICO QUE SE FORMÓ EN EUROPA LUEGO DEL IMPERIO CAROLING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Comic Sans MS"/>
              </a:rPr>
              <a:t>ESTE SISTEMA SE BASA EN LAS RELACIONES PERSONALES ENTRE EL SEÑOR FEUDAL Y SU VASA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USAS DEL FEUDALIS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693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LAS INVASIONES BARBARAS CREARON INSEGUR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UN SEÑOR PODEROSO PROTEGÍA A LOS MÁS DÉBI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LAS CIUDADES DESAPARECIERON Y CON ESTO TAMBIÉN EL COMERC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EL VASALLAJ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286000"/>
            <a:ext cx="5943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L SEÑOR PODEROSO SE LLAMÓ SEÑOR FEUD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L MÁS DÉBIL SE LLAMÓ VASA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NTRE AMBOS EXISTÍA UN JURAMENTO DE FIDELIDAD MUTU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2743200"/>
            <a:ext cx="1752480" cy="15238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SA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2743200"/>
            <a:ext cx="1752840" cy="160020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Ñ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EUD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52388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TE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CONÓ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ILIT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4267080"/>
            <a:ext cx="2667240" cy="1447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Y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SE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G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IMPUEST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981080"/>
            <a:ext cx="1371600" cy="381240"/>
          </a:xfrm>
          <a:prstGeom prst="leftArrow">
            <a:avLst>
              <a:gd name="adj1" fmla="val 50000"/>
              <a:gd name="adj2" fmla="val 89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90512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876920"/>
            <a:ext cx="1447560" cy="380880"/>
          </a:xfrm>
          <a:prstGeom prst="rightArrow">
            <a:avLst>
              <a:gd name="adj1" fmla="val 50000"/>
              <a:gd name="adj2" fmla="val 950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876920"/>
            <a:ext cx="1447920" cy="380880"/>
          </a:xfrm>
          <a:prstGeom prst="rightArrow">
            <a:avLst>
              <a:gd name="adj1" fmla="val 50000"/>
              <a:gd name="adj2" fmla="val 950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04920"/>
            <a:ext cx="6858000" cy="99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LA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CIONES FEUD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533520"/>
            <a:ext cx="7543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XTOS DE CEREMONI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981080"/>
            <a:ext cx="4572000" cy="4267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l conde preguntó al futu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 vasallo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quería convertirse en su hombre y aqué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e contestó: 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Lo quier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, después, juntan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as manos que el conde cubrió con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uyas, se aliaron por un ósculo. El homb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rometió fidelidad en estos término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Prometo por mi fidelidad ser fiel al c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y guardar contra todos y enteramente m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homenaje, de buena fe y sin engañ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1905120"/>
            <a:ext cx="4114800" cy="4267080"/>
          </a:xfrm>
          <a:custGeom>
            <a:avLst/>
            <a:gdLst>
              <a:gd name="textAreaLeft" fmla="*/ 200880 w 4114800"/>
              <a:gd name="textAreaRight" fmla="*/ 3913920 w 4114800"/>
              <a:gd name="textAreaTop" fmla="*/ 200880 h 4267080"/>
              <a:gd name="textAreaBottom" fmla="*/ 4066200 h 4267080"/>
            </a:gdLst>
            <a:ahLst/>
            <a:rect l="textAreaLeft" t="textAreaTop" r="textAreaRight" b="textAreaBottom"/>
            <a:pathLst>
              <a:path w="21600" h="22399">
                <a:moveTo>
                  <a:pt x="3600" y="0"/>
                </a:moveTo>
                <a:arcTo wR="3600" hR="3600" stAng="16200000" swAng="-5400000"/>
                <a:lnTo>
                  <a:pt x="0" y="18799"/>
                </a:lnTo>
                <a:arcTo wR="3600" hR="3600" stAng="10800000" swAng="-5400000"/>
                <a:lnTo>
                  <a:pt x="18000" y="22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 nombre del señor, Yo, Rogeli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siers, te doy en feudo a ti, Ar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 Corleano y a tus descendientes y 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rego el castillo para que lo tengá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 feudo mío, salvo mi fe, mis derech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ñoriales y mi justicia. Año 1138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carnación del Seño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5638680"/>
            <a:ext cx="38098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ff"/>
                </a:solidFill>
                <a:latin typeface="Times New Roman"/>
              </a:rPr>
              <a:t>Rito del vasallaj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s-ES" sz="1800" spc="-1" strike="noStrike">
                <a:solidFill>
                  <a:srgbClr val="0000ff"/>
                </a:solidFill>
                <a:latin typeface="Times New Roman"/>
              </a:rPr>
              <a:t>Galberto de Brujas. Siglo X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5486400"/>
            <a:ext cx="373392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Concesión de un feudo. 113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6680" y="5334120"/>
            <a:ext cx="7010640" cy="106668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4191120"/>
            <a:ext cx="609588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971800"/>
            <a:ext cx="4647960" cy="11430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1828800"/>
            <a:ext cx="1905120" cy="10666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5486400"/>
            <a:ext cx="2514600" cy="762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ERVOS DE LA GL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5562720"/>
            <a:ext cx="28958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4343400"/>
            <a:ext cx="2057400" cy="762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AMPESINOS Y VILL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4419720"/>
            <a:ext cx="25146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3124080"/>
            <a:ext cx="1523880" cy="83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BLE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3124080"/>
            <a:ext cx="1600200" cy="83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304920"/>
            <a:ext cx="739116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 PIRÁMIDE FEUD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03600" y="1676520"/>
            <a:ext cx="807480" cy="4495680"/>
          </a:xfrm>
          <a:custGeom>
            <a:avLst/>
            <a:gdLst>
              <a:gd name="textAreaLeft" fmla="*/ 39240 w 807480"/>
              <a:gd name="textAreaRight" fmla="*/ 768240 w 807480"/>
              <a:gd name="textAreaTop" fmla="*/ 39240 h 4495680"/>
              <a:gd name="textAreaBottom" fmla="*/ 4456440 h 4495680"/>
            </a:gdLst>
            <a:ahLst/>
            <a:rect l="textAreaLeft" t="textAreaTop" r="textAreaRight" b="textAreaBottom"/>
            <a:pathLst>
              <a:path w="21600" h="120215">
                <a:moveTo>
                  <a:pt x="3600" y="0"/>
                </a:moveTo>
                <a:arcTo wR="3600" hR="3600" stAng="16200000" swAng="-5400000"/>
                <a:lnTo>
                  <a:pt x="0" y="116615"/>
                </a:lnTo>
                <a:arcTo wR="3600" hR="3600" stAng="10800000" swAng="-5400000"/>
                <a:lnTo>
                  <a:pt x="18000" y="120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STA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601560"/>
            <a:ext cx="586728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584520" cy="473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8080" y="1600200"/>
            <a:ext cx="32004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LA CEREMONIA DE HOMENAJE EL VASALLO SE DECLARABA HOMBRE DE SU SEÑ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SEÑOR FEUDAL LE ENTREGABA UN FEUDO MEDIANTE LA INVESTIDU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07:35:02Z</dcterms:created>
  <dc:creator>Fernando</dc:creator>
  <dc:description/>
  <dc:language>en-US</dc:language>
  <cp:lastModifiedBy>Microsoft</cp:lastModifiedBy>
  <dcterms:modified xsi:type="dcterms:W3CDTF">2008-10-07T03:44:41Z</dcterms:modified>
  <cp:revision>37</cp:revision>
  <dc:subject/>
  <dc:title>FEUDALISMO</dc:title>
</cp:coreProperties>
</file>